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422280" y="1240920"/>
            <a:ext cx="59529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000000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366BD8-487D-49F1-B25F-00DC4131218C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60E2F8-C1D2-4E2B-A931-CF00906F9911}" type="slidenum">
              <a:rPr b="0" lang="en-US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9D5BC-CE30-4FE5-A2C2-EEBBFFB2A87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A7EC2-B606-43BF-8B97-91FB8EAE08E2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0EA93-E05F-4A29-B9CC-ADA0B998FCA6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6EC3D-00DA-451F-B477-D60183F831E8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422280" y="1241280"/>
            <a:ext cx="5952960" cy="33498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76DA92-DA12-4AB7-BBFD-724B01632179}" type="slidenum">
              <a:rPr b="0" lang="ru-RU" sz="1200" spc="-1" strike="noStrike">
                <a:solidFill>
                  <a:srgbClr val="000000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E89C-71C9-4D6E-91DD-9F8AF45C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418-78B9-42DD-8204-D69CF35A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54D-B0FD-4DE9-93FF-30FFC566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25C2-FBFD-4F68-999F-5EFDCBD7E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EE5-3F90-4A98-8EE4-7BB2A2C2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2B32-A4AE-4D56-89F9-B42C3724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CBE-1074-4BBD-B661-1BB8D66CD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4B4-74B7-4F35-B3B0-4D8D65AB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5738-02B0-4CFC-B539-62EA3CD3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88D5-3CDC-48F4-B2AA-BF2F33DE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B3E6-94C2-4170-9238-438C0321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E456-2584-4D81-92F6-0DAA27A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EA73F-DF9F-4D13-8A64-4C69C66B2E6C}" type="slidenum">
              <a:rPr b="0" lang="en-US" sz="1200" spc="-1" strike="noStrike">
                <a:solidFill>
                  <a:srgbClr val="8989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850760"/>
            <a:ext cx="10071000" cy="197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111720" y="4220640"/>
            <a:ext cx="595800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бенник Татьяна Константин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grebennik@oparina4.ru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дующий организационно-методическим отделом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БУ «НМИЦ АГП им. В.И. Кулакова» МЗ РФ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17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600" spc="-1" strike="noStrike">
                <a:solidFill>
                  <a:srgbClr val="1f4e79"/>
                </a:solidFill>
                <a:latin typeface="Times New Roman"/>
                <a:ea typeface="Times New Roman"/>
              </a:rPr>
              <a:t>декабрь, 2019 г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10495080" y="136440"/>
            <a:ext cx="1697040" cy="13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3"/>
          <p:cNvSpPr/>
          <p:nvPr/>
        </p:nvSpPr>
        <p:spPr>
          <a:xfrm>
            <a:off x="1308240" y="285768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 Таблица 2100 графа 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казывать число абортов, проведенных по социальным показаниям (независимо от метода)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Прямоугольная выноска 4"/>
          <p:cNvSpPr/>
          <p:nvPr/>
        </p:nvSpPr>
        <p:spPr>
          <a:xfrm>
            <a:off x="5473800" y="2298600"/>
            <a:ext cx="6159240" cy="3988080"/>
          </a:xfrm>
          <a:prstGeom prst="wedgeRectCallout">
            <a:avLst>
              <a:gd name="adj1" fmla="val -88412"/>
              <a:gd name="adj2" fmla="val 2328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новление Правительства РФ от 06.02.2012 N 98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 социальном показании для искусственного прерывания беременности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альным показанием для искусственного прерывания беременности является беременность, наступившая в результате совершения преступления, предусмотренног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тьей 131 Уголовного кодекса Российской Федера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0"/>
          <p:cNvSpPr/>
          <p:nvPr/>
        </p:nvSpPr>
        <p:spPr>
          <a:xfrm>
            <a:off x="2006640" y="684360"/>
            <a:ext cx="816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Прямоугольник 11"/>
          <p:cNvSpPr/>
          <p:nvPr/>
        </p:nvSpPr>
        <p:spPr>
          <a:xfrm>
            <a:off x="1752480" y="194328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имательно заполняем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борты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число абортов по форме № 13 (т1000+т2000) равно или превосходит аборты по форме № 14 за сче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улато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изведенных абортов. Форма № 14 учитывает аборты, произведенны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в стационарных услови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1,04+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1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.6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Прямоугольник 4"/>
          <p:cNvSpPr/>
          <p:nvPr/>
        </p:nvSpPr>
        <p:spPr>
          <a:xfrm flipH="1">
            <a:off x="673200" y="1066680"/>
            <a:ext cx="1095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16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33520" y="2286000"/>
            <a:ext cx="86104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ует проводить с отчетн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ой № 14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Сведения о деятельности подразделений медицинской организации, оказывающих медицинскую помощь в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н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ловиях»:  таблиц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ф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 поводу внематочной беременности (раздел  3. «Хирургическая работа организации»)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авильной регистрации сумма внематочных беременностей из строк 7, таблиц 1000 и 2000 по форме № 13 равна числу операций по поводу внематочной беременности по форме № 14, при разнице значений необходимо предоставление пояснительной запис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Прямоугольная выноска 3"/>
          <p:cNvSpPr/>
          <p:nvPr/>
        </p:nvSpPr>
        <p:spPr>
          <a:xfrm>
            <a:off x="9461520" y="1866960"/>
            <a:ext cx="2171520" cy="3429000"/>
          </a:xfrm>
          <a:prstGeom prst="wedgeRectCallout">
            <a:avLst>
              <a:gd name="adj1" fmla="val -87023"/>
              <a:gd name="adj2" fmla="val 1425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1000,7,04+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,2000,7,04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=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4,4000,141,0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Прямоугольник 4"/>
          <p:cNvSpPr/>
          <p:nvPr/>
        </p:nvSpPr>
        <p:spPr>
          <a:xfrm flipH="1">
            <a:off x="673200" y="1143000"/>
            <a:ext cx="946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А №13 - ФОРМА №1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форменный контрол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0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387520" y="2781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22" name="Рисунок 14" descr=""/>
          <p:cNvPicPr/>
          <p:nvPr/>
        </p:nvPicPr>
        <p:blipFill>
          <a:blip r:embed="rId1"/>
          <a:stretch/>
        </p:blipFill>
        <p:spPr>
          <a:xfrm>
            <a:off x="9997920" y="136440"/>
            <a:ext cx="2194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1120" y="577800"/>
            <a:ext cx="877284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ведения о беременности с абортивным исходом»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олняется полностью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10339560" y="136440"/>
            <a:ext cx="1852560" cy="1440000"/>
          </a:xfrm>
          <a:prstGeom prst="rect">
            <a:avLst/>
          </a:prstGeom>
          <a:ln w="0">
            <a:noFill/>
          </a:ln>
        </p:spPr>
      </p:pic>
      <p:pic>
        <p:nvPicPr>
          <p:cNvPr id="54" name="Объект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962000" y="2225520"/>
            <a:ext cx="848052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2200" y="420840"/>
            <a:ext cx="784548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учетная медицинская документация для формы № 13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4" descr=""/>
          <p:cNvPicPr/>
          <p:nvPr/>
        </p:nvPicPr>
        <p:blipFill>
          <a:blip r:embed="rId1"/>
          <a:stretch/>
        </p:blipFill>
        <p:spPr>
          <a:xfrm>
            <a:off x="1962000" y="1841400"/>
            <a:ext cx="7993080" cy="400536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3"/>
          <p:cNvSpPr/>
          <p:nvPr/>
        </p:nvSpPr>
        <p:spPr>
          <a:xfrm>
            <a:off x="10634760" y="6356520"/>
            <a:ext cx="153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0395000" y="136440"/>
            <a:ext cx="1797120" cy="13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0" name="Группа 13"/>
          <p:cNvGrpSpPr/>
          <p:nvPr/>
        </p:nvGrpSpPr>
        <p:grpSpPr>
          <a:xfrm>
            <a:off x="654120" y="1501920"/>
            <a:ext cx="10101240" cy="4957560"/>
            <a:chOff x="654120" y="1501920"/>
            <a:chExt cx="10101240" cy="4957560"/>
          </a:xfrm>
        </p:grpSpPr>
        <p:pic>
          <p:nvPicPr>
            <p:cNvPr id="61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1501920"/>
              <a:ext cx="1010124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Box 5"/>
            <p:cNvSpPr/>
            <p:nvPr/>
          </p:nvSpPr>
          <p:spPr>
            <a:xfrm>
              <a:off x="834120" y="224892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3" name="TextBox 7"/>
            <p:cNvSpPr/>
            <p:nvPr/>
          </p:nvSpPr>
          <p:spPr>
            <a:xfrm>
              <a:off x="1253880" y="3655440"/>
              <a:ext cx="107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4" name="TextBox 12"/>
            <p:cNvSpPr/>
            <p:nvPr/>
          </p:nvSpPr>
          <p:spPr>
            <a:xfrm>
              <a:off x="871920" y="5184720"/>
              <a:ext cx="11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000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65" name="TextBox 14"/>
          <p:cNvSpPr/>
          <p:nvPr/>
        </p:nvSpPr>
        <p:spPr>
          <a:xfrm>
            <a:off x="6700680" y="993600"/>
            <a:ext cx="405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 22 недель беременност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66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67" name="TextBox 15"/>
          <p:cNvSpPr/>
          <p:nvPr/>
        </p:nvSpPr>
        <p:spPr>
          <a:xfrm>
            <a:off x="654120" y="1324080"/>
            <a:ext cx="18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69" name="Группа 13"/>
          <p:cNvGrpSpPr/>
          <p:nvPr/>
        </p:nvGrpSpPr>
        <p:grpSpPr>
          <a:xfrm>
            <a:off x="654120" y="2133720"/>
            <a:ext cx="10101240" cy="4325760"/>
            <a:chOff x="654120" y="2133720"/>
            <a:chExt cx="10101240" cy="4325760"/>
          </a:xfrm>
        </p:grpSpPr>
        <p:pic>
          <p:nvPicPr>
            <p:cNvPr id="70" name="Схема 2" descr=""/>
            <p:cNvPicPr/>
            <p:nvPr/>
          </p:nvPicPr>
          <p:blipFill>
            <a:blip r:embed="rId1"/>
            <a:stretch/>
          </p:blipFill>
          <p:spPr>
            <a:xfrm>
              <a:off x="654120" y="2133720"/>
              <a:ext cx="10101240" cy="43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5"/>
            <p:cNvSpPr/>
            <p:nvPr/>
          </p:nvSpPr>
          <p:spPr>
            <a:xfrm>
              <a:off x="871920" y="2783880"/>
              <a:ext cx="1846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1125720" y="4005000"/>
              <a:ext cx="10742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73" name="TextBox 12"/>
            <p:cNvSpPr/>
            <p:nvPr/>
          </p:nvSpPr>
          <p:spPr>
            <a:xfrm>
              <a:off x="871920" y="5346360"/>
              <a:ext cx="1171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4" name="TextBox 14"/>
          <p:cNvSpPr/>
          <p:nvPr/>
        </p:nvSpPr>
        <p:spPr>
          <a:xfrm>
            <a:off x="5251320" y="17524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75" name="Рисунок 11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76" name="TextBox 16"/>
          <p:cNvSpPr/>
          <p:nvPr/>
        </p:nvSpPr>
        <p:spPr>
          <a:xfrm>
            <a:off x="1054080" y="278460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1425600" y="4044960"/>
            <a:ext cx="4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TextBox 18"/>
          <p:cNvSpPr/>
          <p:nvPr/>
        </p:nvSpPr>
        <p:spPr>
          <a:xfrm>
            <a:off x="1054080" y="5308560"/>
            <a:ext cx="4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c00000"/>
                </a:solidFill>
                <a:latin typeface="Corbe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35200" y="377640"/>
            <a:ext cx="779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яснительные записки к форме № 13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pSp>
        <p:nvGrpSpPr>
          <p:cNvPr id="80" name="Группа 13"/>
          <p:cNvGrpSpPr/>
          <p:nvPr/>
        </p:nvGrpSpPr>
        <p:grpSpPr>
          <a:xfrm>
            <a:off x="762120" y="1176480"/>
            <a:ext cx="7958160" cy="4956120"/>
            <a:chOff x="762120" y="1176480"/>
            <a:chExt cx="7958160" cy="4956120"/>
          </a:xfrm>
        </p:grpSpPr>
        <p:pic>
          <p:nvPicPr>
            <p:cNvPr id="81" name="Схема 2" descr=""/>
            <p:cNvPicPr/>
            <p:nvPr/>
          </p:nvPicPr>
          <p:blipFill>
            <a:blip r:embed="rId1"/>
            <a:stretch/>
          </p:blipFill>
          <p:spPr>
            <a:xfrm>
              <a:off x="762120" y="1176480"/>
              <a:ext cx="7958160" cy="495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TextBox 5"/>
            <p:cNvSpPr/>
            <p:nvPr/>
          </p:nvSpPr>
          <p:spPr>
            <a:xfrm>
              <a:off x="1356840" y="18990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1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1728360" y="342720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2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84" name="TextBox 12"/>
            <p:cNvSpPr/>
            <p:nvPr/>
          </p:nvSpPr>
          <p:spPr>
            <a:xfrm>
              <a:off x="1316160" y="4904280"/>
              <a:ext cx="483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orbel"/>
                </a:rPr>
                <a:t>3</a:t>
              </a:r>
              <a:r>
                <a:rPr b="1" lang="en-US" sz="2800" spc="-1" strike="noStrike">
                  <a:solidFill>
                    <a:srgbClr val="c00000"/>
                  </a:solidFill>
                  <a:latin typeface="Corbel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5" name="Прямоугольник 11"/>
          <p:cNvSpPr/>
          <p:nvPr/>
        </p:nvSpPr>
        <p:spPr>
          <a:xfrm>
            <a:off x="566640" y="2957400"/>
            <a:ext cx="1100448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аборты у девочек в возрасте до 14 лет вкл. считаются как аборты по медицинским показаниям, в силу физиологической незрелости организм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86" name="Рисунок 14" descr=""/>
          <p:cNvPicPr/>
          <p:nvPr/>
        </p:nvPicPr>
        <p:blipFill>
          <a:blip r:embed="rId2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66640" y="4322880"/>
          <a:ext cx="11004480" cy="2431800"/>
        </p:xfrm>
        <a:graphic>
          <a:graphicData uri="http://schemas.openxmlformats.org/drawingml/2006/table">
            <a:tbl>
              <a:tblPr/>
              <a:tblGrid>
                <a:gridCol w="2200320"/>
                <a:gridCol w="2201760"/>
                <a:gridCol w="2200320"/>
                <a:gridCol w="2202120"/>
                <a:gridCol w="2199960"/>
              </a:tblGrid>
              <a:tr h="204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ритория проживани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ед. организац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где произведено прерывани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, возраст на момент госпит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производства аб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з (МКБ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пособ прерывания берем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660240" y="2805120"/>
          <a:ext cx="1085868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13360"/>
                <a:gridCol w="530280"/>
                <a:gridCol w="909360"/>
                <a:gridCol w="1060560"/>
                <a:gridCol w="835200"/>
                <a:gridCol w="833400"/>
                <a:gridCol w="833400"/>
                <a:gridCol w="833400"/>
                <a:gridCol w="83340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89" name="Прямоугольная выноска 2"/>
          <p:cNvSpPr/>
          <p:nvPr/>
        </p:nvSpPr>
        <p:spPr>
          <a:xfrm>
            <a:off x="5246640" y="5254560"/>
            <a:ext cx="2435400" cy="1425600"/>
          </a:xfrm>
          <a:prstGeom prst="wedgeRectCallout">
            <a:avLst>
              <a:gd name="adj1" fmla="val 50722"/>
              <a:gd name="adj2" fmla="val -9487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2. таблица 1000, стр.16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Прямоугольная выноска 4"/>
          <p:cNvSpPr/>
          <p:nvPr/>
        </p:nvSpPr>
        <p:spPr>
          <a:xfrm>
            <a:off x="9248760" y="3828960"/>
            <a:ext cx="2435400" cy="1425600"/>
          </a:xfrm>
          <a:prstGeom prst="wedgeRectCallout">
            <a:avLst>
              <a:gd name="adj1" fmla="val -99995"/>
              <a:gd name="adj2" fmla="val 222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Все аборты у девочек до 14 лет вкл. показываются в форме  № 13. таблица 1101, стр.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" name="Рисунок 14" descr=""/>
          <p:cNvPicPr/>
          <p:nvPr/>
        </p:nvPicPr>
        <p:blipFill>
          <a:blip r:embed="rId1"/>
          <a:stretch/>
        </p:blipFill>
        <p:spPr>
          <a:xfrm>
            <a:off x="9987120" y="136440"/>
            <a:ext cx="2205000" cy="17146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7"/>
          <p:cNvSpPr/>
          <p:nvPr/>
        </p:nvSpPr>
        <p:spPr>
          <a:xfrm>
            <a:off x="1523880" y="4827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85800" y="19033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55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82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67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e75b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bf7"/>
                    </a:solidFill>
                  </a:tcPr>
                </a:tc>
              </a:tr>
            </a:tbl>
          </a:graphicData>
        </a:graphic>
      </p:graphicFrame>
      <p:sp>
        <p:nvSpPr>
          <p:cNvPr id="95" name="Прямоугольная выноска 2"/>
          <p:cNvSpPr/>
          <p:nvPr/>
        </p:nvSpPr>
        <p:spPr>
          <a:xfrm>
            <a:off x="2843280" y="3613320"/>
            <a:ext cx="1841400" cy="1101600"/>
          </a:xfrm>
          <a:prstGeom prst="wedgeRectCallout">
            <a:avLst>
              <a:gd name="adj1" fmla="val 163282"/>
              <a:gd name="adj2" fmla="val 6803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0г1+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13т1101г1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Прямоугольная выноска 3"/>
          <p:cNvSpPr/>
          <p:nvPr/>
        </p:nvSpPr>
        <p:spPr>
          <a:xfrm>
            <a:off x="1771560" y="5533920"/>
            <a:ext cx="2281320" cy="1262160"/>
          </a:xfrm>
          <a:prstGeom prst="wedgeRectCallout">
            <a:avLst>
              <a:gd name="adj1" fmla="val 211666"/>
              <a:gd name="adj2" fmla="val -94611"/>
            </a:avLst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Прямоугольная выноска 4"/>
          <p:cNvSpPr/>
          <p:nvPr/>
        </p:nvSpPr>
        <p:spPr>
          <a:xfrm>
            <a:off x="9515520" y="3936960"/>
            <a:ext cx="2281320" cy="1262160"/>
          </a:xfrm>
          <a:prstGeom prst="wedgeRectCallout">
            <a:avLst>
              <a:gd name="adj1" fmla="val -94527"/>
              <a:gd name="adj2" fmla="val 30166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ет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0г4+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13т1101г4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8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7"/>
          <p:cNvSpPr/>
          <p:nvPr/>
        </p:nvSpPr>
        <p:spPr>
          <a:xfrm>
            <a:off x="2451240" y="317520"/>
            <a:ext cx="795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685800" y="1611360"/>
            <a:ext cx="78732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5-конечная звезда 5"/>
          <p:cNvSpPr/>
          <p:nvPr/>
        </p:nvSpPr>
        <p:spPr>
          <a:xfrm>
            <a:off x="1771560" y="5707080"/>
            <a:ext cx="457200" cy="458640"/>
          </a:xfrm>
          <a:custGeom>
            <a:avLst/>
            <a:gdLst/>
            <a:ahLst/>
            <a:rect l="l" t="t" r="r" b="b"/>
            <a:pathLst>
              <a:path w="457200" h="457579">
                <a:moveTo>
                  <a:pt x="0" y="174779"/>
                </a:moveTo>
                <a:lnTo>
                  <a:pt x="174636" y="174780"/>
                </a:lnTo>
                <a:lnTo>
                  <a:pt x="228600" y="0"/>
                </a:lnTo>
                <a:lnTo>
                  <a:pt x="282564" y="174780"/>
                </a:lnTo>
                <a:lnTo>
                  <a:pt x="457200" y="174779"/>
                </a:lnTo>
                <a:lnTo>
                  <a:pt x="315916" y="282798"/>
                </a:lnTo>
                <a:lnTo>
                  <a:pt x="369882" y="457578"/>
                </a:lnTo>
                <a:lnTo>
                  <a:pt x="228600" y="349557"/>
                </a:lnTo>
                <a:lnTo>
                  <a:pt x="87318" y="457578"/>
                </a:lnTo>
                <a:lnTo>
                  <a:pt x="141284" y="282798"/>
                </a:lnTo>
                <a:lnTo>
                  <a:pt x="0" y="17477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685800" y="2805120"/>
          <a:ext cx="10833120" cy="3875040"/>
        </p:xfrm>
        <a:graphic>
          <a:graphicData uri="http://schemas.openxmlformats.org/drawingml/2006/table">
            <a:tbl>
              <a:tblPr/>
              <a:tblGrid>
                <a:gridCol w="76320"/>
                <a:gridCol w="4103640"/>
                <a:gridCol w="528480"/>
                <a:gridCol w="908280"/>
                <a:gridCol w="1058760"/>
                <a:gridCol w="830160"/>
                <a:gridCol w="831960"/>
                <a:gridCol w="831960"/>
                <a:gridCol w="831600"/>
                <a:gridCol w="831960"/>
              </a:tblGrid>
              <a:tr h="309600">
                <a:tc gridSpan="2"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№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-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о 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КБ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gridSpan="5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в возрасте (лет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78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- 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- 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- 4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лет и старш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8200">
                <a:tc grid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55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прерываний беременности в срок до 12 недель, 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 - 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5a11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0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856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22860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том числе (из стр. 1)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22860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26640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анормальные продукты зача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опроизвольны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й абор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48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иды аборта (криминаль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39840">
                <a:tc>
                  <a:txBody>
                    <a:bodyPr lIns="6480" rIns="6480" tIns="64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b" marL="6480" marR="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3430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орт неуточненный (внебольничны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3430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103" name="Прямоугольная выноска 2"/>
          <p:cNvSpPr/>
          <p:nvPr/>
        </p:nvSpPr>
        <p:spPr>
          <a:xfrm>
            <a:off x="2627280" y="5114880"/>
            <a:ext cx="2033640" cy="1311480"/>
          </a:xfrm>
          <a:prstGeom prst="wedgeRectCallout">
            <a:avLst>
              <a:gd name="adj1" fmla="val 146439"/>
              <a:gd name="adj2" fmla="val -86435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строк 2-6 графы 4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Прямоугольная выноска 3"/>
          <p:cNvSpPr/>
          <p:nvPr/>
        </p:nvSpPr>
        <p:spPr>
          <a:xfrm>
            <a:off x="9320040" y="1494000"/>
            <a:ext cx="2033640" cy="1311120"/>
          </a:xfrm>
          <a:prstGeom prst="wedgeRectCallout">
            <a:avLst>
              <a:gd name="adj1" fmla="val -151453"/>
              <a:gd name="adj2" fmla="val 173129"/>
            </a:avLst>
          </a:prstGeom>
          <a:solidFill>
            <a:srgbClr val="92d05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оответствует  сумме граф 5-9 строфы 1  т 1000 Ф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1587600" y="762120"/>
            <a:ext cx="755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13 «Сведения о беременности с абортивным исходом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95360" y="2489040"/>
            <a:ext cx="7873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(1000)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07" name="Рисунок 14" descr=""/>
          <p:cNvPicPr/>
          <p:nvPr/>
        </p:nvPicPr>
        <p:blipFill>
          <a:blip r:embed="rId1"/>
          <a:stretch/>
        </p:blipFill>
        <p:spPr>
          <a:xfrm>
            <a:off x="10693440" y="136440"/>
            <a:ext cx="14986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3T10:50:32Z</dcterms:created>
  <dc:creator>Гребенник Татьяна Константиновна</dc:creator>
  <dc:description/>
  <dc:language>en-US</dc:language>
  <cp:lastModifiedBy>Гребенник Татьяна Константиновна</cp:lastModifiedBy>
  <cp:lastPrinted>2018-12-10T14:36:03Z</cp:lastPrinted>
  <dcterms:modified xsi:type="dcterms:W3CDTF">2019-12-09T14:33:21Z</dcterms:modified>
  <cp:revision>102</cp:revision>
  <dc:subject/>
  <dc:title>Презентация PowerPoint</dc:title>
</cp:coreProperties>
</file>